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4396-25B9-4988-881C-99A7BB2AD3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D922-D8B4-48B0-9522-62DF3966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3664-9235-4517-88F6-AEB1E27C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697C1-266A-46C6-B15F-F15DBB7DFE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BAD3-5593-4EDE-95F7-26A4FF03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5D90-0752-4F44-A183-1090AA1A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F67D-A807-4437-94FC-2B77B602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8996-9D45-4C9D-AF7B-99639DAA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2A9D-C1F9-4904-B528-BCB10E44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8641-DB1E-47FF-B24C-709CFEF2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BC8D-A132-404E-980C-AF698E0F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511D-A792-4450-BEB8-313202BE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2E4C-4EA5-4880-99B1-906EF148B4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100/49907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97/48515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章 常见症状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52720" y="1917720"/>
            <a:ext cx="316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稽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弛张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歇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归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状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规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044720" y="3213000"/>
            <a:ext cx="2590560" cy="1441440"/>
          </a:xfrm>
          <a:prstGeom prst="flowChartAlternateProcess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种体温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线的形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852720" y="256536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rcRect l="4137" t="19210" r="1666" b="12543"/>
          <a:stretch/>
        </p:blipFill>
        <p:spPr>
          <a:xfrm>
            <a:off x="6588000" y="5302080"/>
            <a:ext cx="2374920" cy="114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稽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持续数日、数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℃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于伤寒、大叶性肺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片 31" descr=""/>
          <p:cNvPicPr/>
          <p:nvPr/>
        </p:nvPicPr>
        <p:blipFill>
          <a:blip r:embed="rId1"/>
          <a:srcRect l="0" t="0" r="0" b="10674"/>
          <a:stretch/>
        </p:blipFill>
        <p:spPr>
          <a:xfrm>
            <a:off x="527040" y="2781360"/>
            <a:ext cx="80056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弛张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℃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在正常水平以上，见于败血症、化脓性感染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1"/>
          <a:srcRect l="0" t="0" r="0" b="6980"/>
          <a:stretch/>
        </p:blipFill>
        <p:spPr>
          <a:xfrm>
            <a:off x="468360" y="2852640"/>
            <a:ext cx="787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间歇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.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持续数小时后下降至正常。高热与无热交替反复发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图片 46" descr=""/>
          <p:cNvPicPr/>
          <p:nvPr/>
        </p:nvPicPr>
        <p:blipFill>
          <a:blip r:embed="rId1"/>
          <a:srcRect l="0" t="0" r="0" b="9459"/>
          <a:stretch/>
        </p:blipFill>
        <p:spPr>
          <a:xfrm>
            <a:off x="684360" y="2781360"/>
            <a:ext cx="79200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回归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，持续数日，骤降至正常水平，见于回归热、霍奇金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图片 16" descr=""/>
          <p:cNvPicPr/>
          <p:nvPr/>
        </p:nvPicPr>
        <p:blipFill>
          <a:blip r:embed="rId1"/>
          <a:srcRect l="0" t="0" r="0" b="10795"/>
          <a:stretch/>
        </p:blipFill>
        <p:spPr>
          <a:xfrm>
            <a:off x="828720" y="2781360"/>
            <a:ext cx="782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波状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渐升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持续数日降至正常水平，反复发生，“反复发热”，见于布鲁菌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图片 27" descr=""/>
          <p:cNvPicPr/>
          <p:nvPr/>
        </p:nvPicPr>
        <p:blipFill>
          <a:blip r:embed="rId1"/>
          <a:srcRect l="0" t="0" r="0" b="11125"/>
          <a:stretch/>
        </p:blipFill>
        <p:spPr>
          <a:xfrm>
            <a:off x="971640" y="3213000"/>
            <a:ext cx="741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不规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无规律，见于结核病、风湿热、支气管肺炎、肿瘤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图片 25" descr=""/>
          <p:cNvPicPr/>
          <p:nvPr/>
        </p:nvPicPr>
        <p:blipFill>
          <a:blip r:embed="rId1"/>
          <a:srcRect l="0" t="0" r="0" b="10988"/>
          <a:stretch/>
        </p:blipFill>
        <p:spPr>
          <a:xfrm>
            <a:off x="612720" y="270972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1371600"/>
          <a:ext cx="8610480" cy="5022720"/>
        </p:xfrm>
        <a:graphic>
          <a:graphicData uri="http://schemas.openxmlformats.org/drawingml/2006/table">
            <a:tbl>
              <a:tblPr/>
              <a:tblGrid>
                <a:gridCol w="1447560"/>
                <a:gridCol w="7162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热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疾病及临床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稽留热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肺炎球菌性肺炎高热期，伤寒极期。 特点：体温持续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，达数天或数周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弛张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败血症、严重化脓性感染、重症肺结核等。特点：体温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但体温最低时仍高于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间歇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疟疾、急性肾盂肾炎等。特点：骤升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持续数小时骤降至正常，无热期可持续一天或数天后，体温又突然升高，高热期与无热期反复交替出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回归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回归热、霍奇金淋巴瘤等。特点：骤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持续数天后又骤降至正常水平，数日后又骤升至高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波状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布氏杆菌病。特点：渐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数日后又逐渐降至正常水平，持续数日后又逐渐升高，又称“反复发热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规则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于支气管肺炎、结核病、肿瘤。特点：没有一定规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热的临床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病缓急、发热程度与热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病因及诱发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伴随症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伴随症状因病因不同而有所不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对患者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理方面；心理方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4" descr="医疗标志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81360"/>
            <a:ext cx="2016000" cy="18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温过高  与病原体感染、体温调节中枢功能障碍、自主神经功能紊乱等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失调：低于机体需要量  与营养摄入不足及发热使机体代谢率增加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腔黏膜改变  与口腔黏膜干燥、局部体抗力下降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、惊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Picture 4" descr="人体五官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518080"/>
            <a:ext cx="114444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症状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个体患病时主观感受到的不适、痛苦的异常感觉或某些客观病态改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形成护理诊断、制订护理措施起着主导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身体评估、辅助检查提供线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发热、热型、急性发热和慢性发热的含义，发热分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列举发热的常见病因；解释发热机制；比较不同热型的临床特点及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0271" r="0" b="0"/>
          <a:stretch/>
        </p:blipFill>
        <p:spPr>
          <a:xfrm>
            <a:off x="557280" y="2206800"/>
            <a:ext cx="79754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662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生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外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节中枢受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过多或散热过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5640" y="2349000"/>
            <a:ext cx="4975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温调定点上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增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散热减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医疗保健矢量图"/>
          <p:cNvPicPr/>
          <p:nvPr/>
        </p:nvPicPr>
        <p:blipFill>
          <a:blip r:embed="rId1"/>
          <a:srcRect l="8661" t="1639" r="7933" b="0"/>
          <a:stretch/>
        </p:blipFill>
        <p:spPr>
          <a:xfrm>
            <a:off x="7524720" y="524340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788000" y="278136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75"/>
                </a:lnTo>
                <a:cubicBezTo>
                  <a:pt x="10800" y="9275"/>
                  <a:pt x="5400" y="10175"/>
                  <a:pt x="0" y="10175"/>
                </a:cubicBezTo>
                <a:cubicBezTo>
                  <a:pt x="5400" y="10175"/>
                  <a:pt x="10800" y="11075"/>
                  <a:pt x="10800" y="11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常见病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染性发热    主要原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感染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08360" y="2781360"/>
            <a:ext cx="511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温调节中枢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菌性坏死物质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散热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分泌与代谢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体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神经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924360" y="3213000"/>
            <a:ext cx="216000" cy="273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过程与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828720" y="2278080"/>
            <a:ext cx="7414920" cy="3886200"/>
            <a:chOff x="828720" y="2278080"/>
            <a:chExt cx="7414920" cy="3886200"/>
          </a:xfrm>
        </p:grpSpPr>
        <p:sp>
          <p:nvSpPr>
            <p:cNvPr id="126" name="_s1028"/>
            <p:cNvSpPr/>
            <p:nvPr/>
          </p:nvSpPr>
          <p:spPr>
            <a:xfrm>
              <a:off x="3423960" y="227808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热过程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82872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升期：皮肤苍白、畏寒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8" name="_s1030"/>
            <p:cNvCxnSpPr>
              <a:stCxn id="127" idx="0"/>
              <a:endCxn id="126" idx="2"/>
            </p:cNvCxnSpPr>
            <p:nvPr/>
          </p:nvCxnSpPr>
          <p:spPr>
            <a:xfrm flipH="1" flipV="1" rot="5400000">
              <a:off x="284940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29" name="_s1031"/>
            <p:cNvSpPr/>
            <p:nvPr/>
          </p:nvSpPr>
          <p:spPr>
            <a:xfrm>
              <a:off x="342396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热期：皮肤潮红、灼热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_s1032"/>
            <p:cNvCxnSpPr>
              <a:stCxn id="129" idx="0"/>
              <a:endCxn id="126" idx="2"/>
            </p:cNvCxnSpPr>
            <p:nvPr/>
          </p:nvCxnSpPr>
          <p:spPr>
            <a:xfrm flipH="1" flipV="1" rot="5400000">
              <a:off x="4138200" y="4209480"/>
              <a:ext cx="777960" cy="1332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601920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下降期：出汗、皮肤潮湿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2" name="_s1034"/>
            <p:cNvCxnSpPr>
              <a:stCxn id="131" idx="0"/>
              <a:endCxn id="126" idx="2"/>
            </p:cNvCxnSpPr>
            <p:nvPr/>
          </p:nvCxnSpPr>
          <p:spPr>
            <a:xfrm flipV="1" rot="16200000">
              <a:off x="544428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临床分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口腔温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热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急性发热：起病急；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期发热：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844720" y="1844640"/>
            <a:ext cx="60483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7.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等度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8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超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32000" y="234936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8029440" y="4365720"/>
            <a:ext cx="89532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24:53Z</dcterms:modified>
  <cp:revision>79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